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E07DC-5E97-4BA9-845E-A02ED84D6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AA76B-13B0-4617-8A9B-BEBC2CF33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F9ED4-E46D-44F5-B23F-99E7C7816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A28F5-B2CC-422A-8569-CF8448785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9E9EE-5611-4986-AE9E-1F37D76DA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07471-4176-4883-875A-4EB88263C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8BBF0-C95D-4DCD-B068-25455B740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D04DE-5EFC-4ABD-8FCB-859759BB7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282CF-8CDD-491C-ACAF-D9E0BCE74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9DC38-054F-4D83-8969-EFB13CE6D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12F6D-1502-4510-B5BE-6E28E3B10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055A8-1C8A-4B51-B0DD-5F782BCFE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3E850-A45B-4531-A24E-75475DD91C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7086600" cy="11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a casa para La Ven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1219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 casa es muy grande. La casa tiene mucho cuartos. Los cuartos es en la planta baja y primer piso.  La casa tiene mucho banos tambien. El bano es en la planta baja y primer piso.  La casa cuesta $3,000,000. La casa esta en la calle Franklin. La casa esta localizada en Aruba.La casa tiene cuatro pisos. Me gusta la casa. La casa es muy lujos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709680" y="5867280"/>
            <a:ext cx="215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r Kaitlin Carson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l comed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09480" y="4343400"/>
            <a:ext cx="7925040" cy="23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 comedor es muy grande. La casa tiene dos comedors. El comedor es muy nuevo. El comedor es bonita tambi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Sala de televi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001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La sala de television es muy grande. La casa tiene dos sala de televisions. La sala es muy lujosa. Tiene uno television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La Pisci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4723920"/>
            <a:ext cx="7543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La Piscina es muy grande. La casa tiene dos piscinas. Uno Piscina en la yarda. La Piscina es muy bell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9900"/>
                </a:solidFill>
                <a:latin typeface="Arial"/>
              </a:rPr>
              <a:t>El Pasil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1960" y="5409720"/>
            <a:ext cx="518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9900"/>
                </a:solidFill>
                <a:latin typeface="Arial"/>
              </a:rPr>
              <a:t>El Pasillo es muy bonita. El Pasillo es grande. La casa tiene dos pasillo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a cocina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133360" y="5257800"/>
            <a:ext cx="52578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33"/>
                </a:solidFill>
                <a:latin typeface="Arial"/>
              </a:rPr>
              <a:t>La cocina es muy grande. Es muy impresionante. La casa tiene uno cocin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99"/>
                </a:solidFill>
                <a:latin typeface="Arial"/>
              </a:rPr>
              <a:t>El sal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4571640"/>
            <a:ext cx="7848720" cy="15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9999"/>
                </a:solidFill>
                <a:latin typeface="Arial"/>
              </a:rPr>
              <a:t>El salon es muy bonita. El salon es el cuarto de sol tambie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be0e3"/>
                </a:solidFill>
                <a:latin typeface="Arial"/>
              </a:rPr>
              <a:t>El Terraz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76160" y="5181480"/>
            <a:ext cx="60958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 Terraza es moderno. El terraza es muy lujosa y bella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 casa tiene uno terraz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 ban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440" y="51051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 bano es muy grande y lujoso. Es moderno. La casa tiene seis ban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l cuarto de ban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520" y="5105520"/>
            <a:ext cx="80769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l cuarto de bano es muy fantistico. La casa tiene seis banos. El bano tiene mucho sol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El Porch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487692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El porche es muy incredible. El porche es muy nuevo. La casa tiene uno el porch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9900"/>
                </a:solidFill>
                <a:latin typeface="Arial"/>
              </a:rPr>
              <a:t>El cuar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09320" y="5028840"/>
            <a:ext cx="480060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El cuarto es muy lujoso. El cuarto es muy muy bello. En la clase tiene siete cuart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7T16:57:48Z</dcterms:created>
  <dc:creator>carsonkai</dc:creator>
  <dc:description/>
  <dc:language>en-US</dc:language>
  <cp:lastModifiedBy>carsonkai</cp:lastModifiedBy>
  <dcterms:modified xsi:type="dcterms:W3CDTF">2012-05-22T13:21:40Z</dcterms:modified>
  <cp:revision>4</cp:revision>
  <dc:subject/>
  <dc:title>La casa para La Venta</dc:title>
</cp:coreProperties>
</file>